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D03C9-A1CC-4932-BDF4-E4EB18DB5C4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4215-0AF9-4AA9-AF33-6E20BF7414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DFD9-050B-4948-A7AA-7C03B38DB8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3026-B502-40F5-B9CB-21052773A4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12955-FD87-4C3F-8981-C81528BE15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37B3-BF98-4084-8F32-F8057AAFEA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13007-D369-495B-96F3-23C399FC9B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EC73-00B0-4E56-8B6C-8494DE888A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E2255-1A16-405C-B3CE-A3D40F1EB4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8C7C-E7D2-4D12-9D9A-E8A656A6CB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51C1-906C-46EF-A80E-BE87212917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87398-F44B-451F-B2CC-A1B6C67B2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9AA33-5C95-4A22-9F7D-9671099F7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42D078-0755-4241-9C2A-95CFAC6E6A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362832-752F-48D1-8214-1004497F81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282CB8-C613-4C3E-A1BF-2170CBABF6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1BA47A-E2D9-47ED-BB58-E40F43DED8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E78F6A-0533-4F3B-9771-EC764C0AA9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D33547-1939-4423-8438-1E259C035D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2050AB-4A4B-44B8-959F-720A826BB1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43C814-84A7-4495-92D5-A8234D8CA3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FDA823-6D1D-4817-A3E3-65A1213321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D59F9-0473-43F0-9123-2449D3A0B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1F9B9-E761-4CBB-B75C-A872E5258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A63766-7A2E-40ED-B446-4B4DBFB709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1E253-A5A1-4485-A47D-242B0F02B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3669A-2471-4A82-BE1C-E7814925C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2E791-4F14-4CD7-A6B6-FCCA9FACF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CD808-D67D-4B57-932E-26F1F1A29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D2C15-FBD4-4203-B59A-A4BDE9C04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689C3-0550-4201-826E-FF04439A4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0082C-3FCE-4E97-897D-45721AF49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0CFCF-AA6B-4FB0-B2F0-FD244CDF0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D0D12-44FF-4815-9C27-6FE45A382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DD1C8-A7A8-4F50-87AD-579494007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A67CDB-9DE7-4137-8AB3-47F8B713B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11607-C763-4AB8-A01D-132C3A2E4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F747B7-975F-47F3-9195-820E19B84F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172D4A-7E15-4374-BBE4-F7DCD22500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696742-7F76-4BAA-8FA0-9C4027B8F9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64AA22-29A3-47CB-B282-4B5AF05494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C4C197-D0C7-4015-B6AE-55E86DFFEE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271F8-1971-4454-BE4A-3D244E40D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4177D5-F041-4CF3-80CA-438B4D0971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F0E51-EBA3-4E85-AC2B-CB74BD9BD0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60D927-1A34-4F0A-9DD1-D1AB43AF4F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BB936E-D6B6-418D-BE89-B619C25B3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21204A-3EF7-4B27-B4F4-0D7DF62F23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7E60A3-2B52-4056-B13A-09B677BA95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04B3D8-2BEF-4ACF-9EF4-D0F70A2B33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1A1933-AB0C-4DF6-BF2F-9CA3CBADD7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684A87-5863-4381-BB27-F0AA2F4D2F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279632-D2A3-4EE1-9EF4-6B2A05CF5F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926BF-E0C7-4F93-ACCF-ED0338467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6107BE-9341-45C0-90BB-3799F3F246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343CD1-31F2-4460-8161-B6E69FD7EF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08F77E-14F0-4BAA-B8B0-40BCD4F80F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C34AA0-CF6A-498C-AC59-9D2E39A90F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458979-375F-47D5-BB78-4BEE85BEA4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4ED09B-C5F5-4851-AC43-0442148EC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3AE521-ED26-4BEC-AD55-5F1CD54B87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147B3E-EA43-4403-B330-C4A19C3C57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3F1FAB-5442-4AE9-A789-7B37113C69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3486DE-95A6-419B-B5C6-FF929C20F3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984DC-8444-453A-86B2-FD5F39D25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D36D48-4A34-41F3-BA78-E10377AB28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934D24-0161-440A-8CAA-B7A9DCBD10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8531AC-6973-4A58-8A77-186C836B03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7EA06C-EA78-4F14-9B15-F0DB7655CE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80EC0F-688B-42E5-AB88-662D289D9A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2BCAFB-7951-499E-B449-253291814A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9BA8A5-3130-4378-8E2A-9E8B48D87E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877DEA-91D8-4A51-B873-DE8964D9AD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1E4F62-D4BA-4468-92DA-06646583A5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308D26-315D-44C0-B18D-144395C537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8F034-9768-4FC4-A438-A87D19139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E73565-0034-4D12-A16F-F827C68771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8AC009-8E3A-4AAA-8034-E95AF1D584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8E8B7D-A0ED-488C-9217-3FD16168D0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DFE69F-240C-4835-A2C5-5369D5BF0D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3EA024-BB02-45E8-B2C0-25723F60A2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B0F60B-8DCE-4C6A-8A61-138DF92C63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9314E5-F4BE-49E2-994E-9FBA7F86BF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B781A6-51AA-4FCA-BDC6-50E40B6AF2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2E5483-D09A-4D33-AAA4-745ABECB77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E16076-C416-495F-B998-17C36C68FC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59563-03B0-40C1-AF99-ADC271458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B6F2ED-B4DF-45C9-8EDD-6968A0C0F6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A23F8A-5649-425B-9C4A-5C75A7D87B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7C0FA0-317D-4F04-A62A-F87E33CB80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C67763-A7EE-45DA-8521-D2CB604B4C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85CC76-1C7D-499F-90E1-F93C0AC1C6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D54025-81FB-4B25-BE86-A888C4CE56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6BC599-D4CF-43E1-B9D0-537C9FBE63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865175-E437-47DD-A7C6-F5CBBDCCBB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DBCA58-24CF-4C88-83FC-5D1A9EC2A8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38F458-B722-460D-9106-3251DB0424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6C60B-85E5-4764-BE7F-513439901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C07322-DD45-44B1-92C1-47EF738DEA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E40DC7-74FD-4900-A8DC-B3DD90C075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74E9A4-E5CD-40B8-90E7-B22DA4FA46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C42DA4-D3D4-43E0-B7FE-6A59A8317A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A8A1BA-6D7F-4CD1-89A0-E6362F614B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4D1240-C267-4583-A2FB-554768CB3D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74E6D9-DB1F-48BC-9A5B-868060ACF4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6A37F1-8E9E-49C4-926E-884BB2FFC8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FD00C6-1045-4010-9AF9-C00C86DD47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E84774-B52C-47D5-87FB-D0AE53E09A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195B9-4CB9-4F12-90A5-B5EFAF202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094829-96EA-4BAA-8E1B-85CA7EB9E2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834133-0DD5-457D-8503-FF5CA536AB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30C555-6599-4DD1-A453-2BD1783727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E4AA91-DA98-46B7-B49C-5E41481ABE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81BAC5-AA50-4172-88D9-9D3A0C6C4B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36895C-B742-4930-AE87-37586F15CE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2BAEE2-990E-4A19-8AF1-DC761D39F5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45D4AB-EFBC-4241-99E9-39035A0C4C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594B5C-C7F8-4D64-A57D-8DBCBD9CAD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BF4CCA-FC23-4AE4-AB3D-2129827F416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BC91-C759-482F-AB7C-F9EB5B8EE00E}"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24E5-EF35-4470-A44F-4532E68B2E0A}"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F710-003C-484A-9413-24710417753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2747-8FE3-466A-B9EC-E3A979F980B2}" type="slidenum">
              <a:rPr b="0" lang="en-U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1417-3D8D-4EE5-A8FE-E3742DB1C9C7}"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FE69-4918-4437-AEFA-1AA7E729E4D6}"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531F1-D62E-4050-AA8F-4A108B53C626}"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20A6-7F53-456C-B9CB-7555E0EC56CE}"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B37DB-E5C3-4202-AFB1-59D73A120AA9}"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en.wikipedia.org/wiki/Convicts_in_Australia" TargetMode="External"/><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182520" y="4761000"/>
            <a:ext cx="8663040" cy="1689120"/>
          </a:xfrm>
          <a:prstGeom prst="rect">
            <a:avLst/>
          </a:prstGeom>
          <a:ln w="0">
            <a:noFill/>
          </a:ln>
        </p:spPr>
      </p:pic>
      <p:sp>
        <p:nvSpPr>
          <p:cNvPr id="407"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Franklin Gothic Book"/>
              </a:rPr>
              <a:t>By: Kent Grimes</a:t>
            </a:r>
            <a:endParaRPr b="0" lang="en-US" sz="2400" spc="-1" strike="noStrike">
              <a:solidFill>
                <a:srgbClr val="4e3b30"/>
              </a:solidFill>
              <a:latin typeface="Franklin Gothic Book"/>
            </a:endParaRPr>
          </a:p>
        </p:txBody>
      </p:sp>
      <p:pic>
        <p:nvPicPr>
          <p:cNvPr id="408" name="Picture 5" descr="http://upload.wikimedia.org/wikipedia/commons/archive/b/b4/20070311100827!A_large_blank_world_map_with_oceans_marked_in_blue.gif"/>
          <p:cNvPicPr/>
          <p:nvPr/>
        </p:nvPicPr>
        <p:blipFill>
          <a:blip r:embed="rId2"/>
          <a:stretch/>
        </p:blipFill>
        <p:spPr>
          <a:xfrm>
            <a:off x="2057400" y="801720"/>
            <a:ext cx="5886360" cy="2921040"/>
          </a:xfrm>
          <a:prstGeom prst="rect">
            <a:avLst/>
          </a:prstGeom>
          <a:ln w="0">
            <a:noFill/>
          </a:ln>
        </p:spPr>
      </p:pic>
      <p:sp>
        <p:nvSpPr>
          <p:cNvPr id="409" name="Freeform 7"/>
          <p:cNvSpPr/>
          <p:nvPr/>
        </p:nvSpPr>
        <p:spPr>
          <a:xfrm>
            <a:off x="3879720" y="1638360"/>
            <a:ext cx="2749680" cy="1690560"/>
          </a:xfrm>
          <a:custGeom>
            <a:avLst/>
            <a:gdLst/>
            <a:ahLst/>
            <a:rect l="l" t="t" r="r" b="b"/>
            <a:pathLst>
              <a:path w="2749550" h="1691217">
                <a:moveTo>
                  <a:pt x="552450" y="0"/>
                </a:moveTo>
                <a:cubicBezTo>
                  <a:pt x="295275" y="127000"/>
                  <a:pt x="38100" y="254000"/>
                  <a:pt x="19050" y="393700"/>
                </a:cubicBezTo>
                <a:cubicBezTo>
                  <a:pt x="0" y="533400"/>
                  <a:pt x="319617" y="702733"/>
                  <a:pt x="438150" y="838200"/>
                </a:cubicBezTo>
                <a:cubicBezTo>
                  <a:pt x="556683" y="973667"/>
                  <a:pt x="670983" y="1075267"/>
                  <a:pt x="730250" y="1206500"/>
                </a:cubicBezTo>
                <a:cubicBezTo>
                  <a:pt x="789517" y="1337733"/>
                  <a:pt x="698500" y="1559983"/>
                  <a:pt x="793750" y="1625600"/>
                </a:cubicBezTo>
                <a:cubicBezTo>
                  <a:pt x="889000" y="1691217"/>
                  <a:pt x="1140883" y="1678517"/>
                  <a:pt x="1301750" y="1600200"/>
                </a:cubicBezTo>
                <a:cubicBezTo>
                  <a:pt x="1462617" y="1521883"/>
                  <a:pt x="1572683" y="1236133"/>
                  <a:pt x="1758950" y="1155700"/>
                </a:cubicBezTo>
                <a:cubicBezTo>
                  <a:pt x="1945217" y="1075267"/>
                  <a:pt x="2254250" y="1102783"/>
                  <a:pt x="2419350" y="1117600"/>
                </a:cubicBezTo>
                <a:cubicBezTo>
                  <a:pt x="2584450" y="1132417"/>
                  <a:pt x="2749550" y="1244600"/>
                  <a:pt x="2749550" y="1244600"/>
                </a:cubicBezTo>
                <a:lnTo>
                  <a:pt x="2749550" y="1244600"/>
                </a:lnTo>
              </a:path>
            </a:pathLst>
          </a:custGeom>
          <a:noFill/>
          <a:ln w="25560">
            <a:solidFill>
              <a:srgbClr val="000000"/>
            </a:solidFill>
            <a:round/>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103320" y="450720"/>
            <a:ext cx="8894520" cy="1152720"/>
          </a:xfrm>
          <a:prstGeom prst="rect">
            <a:avLst/>
          </a:prstGeom>
          <a:ln w="0">
            <a:noFill/>
          </a:ln>
        </p:spPr>
      </p:pic>
      <p:sp>
        <p:nvSpPr>
          <p:cNvPr id="451" name=""/>
          <p:cNvSpPr txBox="1"/>
          <p:nvPr/>
        </p:nvSpPr>
        <p:spPr>
          <a:xfrm>
            <a:off x="304920" y="1554120"/>
            <a:ext cx="8686800" cy="4525920"/>
          </a:xfrm>
          <a:prstGeom prst="rect">
            <a:avLst/>
          </a:prstGeom>
          <a:noFill/>
          <a:ln w="0">
            <a:noFill/>
          </a:ln>
        </p:spPr>
        <p:txBody>
          <a:bodyPr anchor="t">
            <a:normAutofit/>
          </a:bodyPr>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d1f1f"/>
                </a:solidFill>
                <a:uFillTx/>
                <a:latin typeface="Franklin Gothic Book"/>
                <a:hlinkClick r:id="rId2"/>
              </a:rPr>
              <a:t>http://en.wikipedia.org/wiki/Convicts_in_Australia</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ttp://members.iinet.net.au/~perthdps/convicts/res-03.html</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ttp://australian-history.suite101.com/article.cfm/convict_transportation</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ttp://www.genealogytoday.com/au/articles/convict_research.html</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ttp://www.convictcreations.com/history/crimes.htm</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ttp://www.cultureandrecreation.gov.au/articles/convicts/</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452" name="TextBox 3"/>
          <p:cNvSpPr/>
          <p:nvPr/>
        </p:nvSpPr>
        <p:spPr>
          <a:xfrm>
            <a:off x="0" y="160020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453" name="TextBox 4"/>
          <p:cNvSpPr/>
          <p:nvPr/>
        </p:nvSpPr>
        <p:spPr>
          <a:xfrm>
            <a:off x="3240" y="19810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454" name="TextBox 5"/>
          <p:cNvSpPr/>
          <p:nvPr/>
        </p:nvSpPr>
        <p:spPr>
          <a:xfrm>
            <a:off x="3240" y="236232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455" name="TextBox 6"/>
          <p:cNvSpPr/>
          <p:nvPr/>
        </p:nvSpPr>
        <p:spPr>
          <a:xfrm>
            <a:off x="3240" y="27432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456" name="TextBox 7"/>
          <p:cNvSpPr/>
          <p:nvPr/>
        </p:nvSpPr>
        <p:spPr>
          <a:xfrm>
            <a:off x="3240" y="304812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457" name="TextBox 8"/>
          <p:cNvSpPr/>
          <p:nvPr/>
        </p:nvSpPr>
        <p:spPr>
          <a:xfrm>
            <a:off x="3240" y="34290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1" descr=""/>
          <p:cNvPicPr/>
          <p:nvPr/>
        </p:nvPicPr>
        <p:blipFill>
          <a:blip r:embed="rId1"/>
          <a:stretch/>
        </p:blipFill>
        <p:spPr>
          <a:xfrm>
            <a:off x="103320" y="450720"/>
            <a:ext cx="8894520" cy="1152720"/>
          </a:xfrm>
          <a:prstGeom prst="rect">
            <a:avLst/>
          </a:prstGeom>
          <a:ln w="0">
            <a:noFill/>
          </a:ln>
        </p:spPr>
      </p:pic>
      <p:sp>
        <p:nvSpPr>
          <p:cNvPr id="41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As the years progressed the settlers in the Americas became angry with their government and their treatment. This was a major affect on the British penitential system. Now that the convicts could not be sent to America, the prisons and hulks (a boat left over from the Napoleonic Wars) in Britain were coming to their maximum capacity.</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Title 1" descr=""/>
          <p:cNvPicPr/>
          <p:nvPr/>
        </p:nvPicPr>
        <p:blipFill>
          <a:blip r:embed="rId1"/>
          <a:stretch/>
        </p:blipFill>
        <p:spPr>
          <a:xfrm>
            <a:off x="103320" y="450720"/>
            <a:ext cx="8894520" cy="1152720"/>
          </a:xfrm>
          <a:prstGeom prst="rect">
            <a:avLst/>
          </a:prstGeom>
          <a:ln w="0">
            <a:noFill/>
          </a:ln>
        </p:spPr>
      </p:pic>
      <p:sp>
        <p:nvSpPr>
          <p:cNvPr id="41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James Cook’s expedition to the south pacific in 1770 was when he discovered this great landmass that he named Australia. Cook declared the land for England. When the pressure for an area to send their criminals became to great, King George III proclaimed half of Australia as New South Wales.</a:t>
            </a:r>
            <a:endParaRPr b="0" lang="en-US" sz="3200" spc="-1" strike="noStrike">
              <a:solidFill>
                <a:srgbClr val="4e3b30"/>
              </a:solidFill>
              <a:latin typeface="Franklin Gothic Book"/>
            </a:endParaRPr>
          </a:p>
        </p:txBody>
      </p:sp>
      <p:pic>
        <p:nvPicPr>
          <p:cNvPr id="414" name="Picture 5" descr="http://members.iinet.net.au/~perthdps/convicts/ausnsw.gif"/>
          <p:cNvPicPr/>
          <p:nvPr/>
        </p:nvPicPr>
        <p:blipFill>
          <a:blip r:embed="rId2"/>
          <a:stretch/>
        </p:blipFill>
        <p:spPr>
          <a:xfrm>
            <a:off x="5715000" y="380880"/>
            <a:ext cx="1371600" cy="1262160"/>
          </a:xfrm>
          <a:prstGeom prst="rect">
            <a:avLst/>
          </a:prstGeom>
          <a:ln w="0">
            <a:noFill/>
          </a:ln>
        </p:spPr>
      </p:pic>
      <p:sp>
        <p:nvSpPr>
          <p:cNvPr id="415" name="TextBox 4"/>
          <p:cNvSpPr/>
          <p:nvPr/>
        </p:nvSpPr>
        <p:spPr>
          <a:xfrm>
            <a:off x="7467480" y="0"/>
            <a:ext cx="12193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w South Wales</a:t>
            </a:r>
            <a:endParaRPr b="0" lang="en-US" sz="1100" spc="-1" strike="noStrike">
              <a:solidFill>
                <a:srgbClr val="000000"/>
              </a:solidFill>
              <a:latin typeface="Arial"/>
            </a:endParaRPr>
          </a:p>
        </p:txBody>
      </p:sp>
      <p:cxnSp>
        <p:nvCxnSpPr>
          <p:cNvPr id="416" name="Straight Arrow Connector 6"/>
          <p:cNvCxnSpPr/>
          <p:nvPr/>
        </p:nvCxnSpPr>
        <p:spPr>
          <a:xfrm flipH="1">
            <a:off x="6933600" y="379800"/>
            <a:ext cx="533880" cy="3819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103320" y="450720"/>
            <a:ext cx="8894520" cy="1152720"/>
          </a:xfrm>
          <a:prstGeom prst="rect">
            <a:avLst/>
          </a:prstGeom>
          <a:ln w="0">
            <a:noFill/>
          </a:ln>
        </p:spPr>
      </p:pic>
      <p:sp>
        <p:nvSpPr>
          <p:cNvPr id="418"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first settlement was established in 1804. With 260 people that included 178 convicts. From 1812 to 1853 ships were sent directly from England to the colony. The colony was originally named Van Diemen’s Land. About 67,000 convicts were transported to Tasmania.</a:t>
            </a:r>
            <a:endParaRPr b="0" lang="en-US" sz="3200" spc="-1" strike="noStrike">
              <a:solidFill>
                <a:srgbClr val="4e3b30"/>
              </a:solidFill>
              <a:latin typeface="Franklin Gothic Book"/>
            </a:endParaRPr>
          </a:p>
        </p:txBody>
      </p:sp>
      <p:pic>
        <p:nvPicPr>
          <p:cNvPr id="419" name="Picture 5" descr="http://members.iinet.net.au/~perthdps/convicts/austas.gif"/>
          <p:cNvPicPr/>
          <p:nvPr/>
        </p:nvPicPr>
        <p:blipFill>
          <a:blip r:embed="rId2"/>
          <a:stretch/>
        </p:blipFill>
        <p:spPr>
          <a:xfrm>
            <a:off x="4876920" y="152280"/>
            <a:ext cx="1447560" cy="1332000"/>
          </a:xfrm>
          <a:prstGeom prst="rect">
            <a:avLst/>
          </a:prstGeom>
          <a:ln w="0">
            <a:noFill/>
          </a:ln>
        </p:spPr>
      </p:pic>
      <p:sp>
        <p:nvSpPr>
          <p:cNvPr id="420" name="TextBox 4"/>
          <p:cNvSpPr/>
          <p:nvPr/>
        </p:nvSpPr>
        <p:spPr>
          <a:xfrm>
            <a:off x="6939000" y="228600"/>
            <a:ext cx="794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mania</a:t>
            </a:r>
            <a:endParaRPr b="0" lang="en-US" sz="1100" spc="-1" strike="noStrike">
              <a:solidFill>
                <a:srgbClr val="000000"/>
              </a:solidFill>
              <a:latin typeface="Arial"/>
            </a:endParaRPr>
          </a:p>
        </p:txBody>
      </p:sp>
      <p:cxnSp>
        <p:nvCxnSpPr>
          <p:cNvPr id="421" name="Straight Arrow Connector 5"/>
          <p:cNvCxnSpPr/>
          <p:nvPr/>
        </p:nvCxnSpPr>
        <p:spPr>
          <a:xfrm flipH="1">
            <a:off x="6095520" y="457200"/>
            <a:ext cx="915120" cy="9151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103320" y="450720"/>
            <a:ext cx="8894520" cy="1152720"/>
          </a:xfrm>
          <a:prstGeom prst="rect">
            <a:avLst/>
          </a:prstGeom>
          <a:ln w="0">
            <a:noFill/>
          </a:ln>
        </p:spPr>
      </p:pic>
      <p:sp>
        <p:nvSpPr>
          <p:cNvPr id="42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s colony was first established to deter the French presence in the area. In 1849 the colony was proclaimed a penal colony of England. In 1868 the last ship carrying the last 260 convicts arrived.</a:t>
            </a:r>
            <a:endParaRPr b="0" lang="en-US" sz="3200" spc="-1" strike="noStrike">
              <a:solidFill>
                <a:srgbClr val="4e3b30"/>
              </a:solidFill>
              <a:latin typeface="Franklin Gothic Book"/>
            </a:endParaRPr>
          </a:p>
        </p:txBody>
      </p:sp>
      <p:pic>
        <p:nvPicPr>
          <p:cNvPr id="424" name="Picture 2" descr="http://members.iinet.net.au/~perthdps/convicts/auswa.gif"/>
          <p:cNvPicPr/>
          <p:nvPr/>
        </p:nvPicPr>
        <p:blipFill>
          <a:blip r:embed="rId2"/>
          <a:stretch/>
        </p:blipFill>
        <p:spPr>
          <a:xfrm>
            <a:off x="5410080" y="228600"/>
            <a:ext cx="1447920" cy="1332000"/>
          </a:xfrm>
          <a:prstGeom prst="rect">
            <a:avLst/>
          </a:prstGeom>
          <a:ln w="0">
            <a:noFill/>
          </a:ln>
        </p:spPr>
      </p:pic>
      <p:sp>
        <p:nvSpPr>
          <p:cNvPr id="425" name="TextBox 4"/>
          <p:cNvSpPr/>
          <p:nvPr/>
        </p:nvSpPr>
        <p:spPr>
          <a:xfrm>
            <a:off x="4119840" y="0"/>
            <a:ext cx="12870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stern Australia</a:t>
            </a:r>
            <a:endParaRPr b="0" lang="en-US" sz="1100" spc="-1" strike="noStrike">
              <a:solidFill>
                <a:srgbClr val="000000"/>
              </a:solidFill>
              <a:latin typeface="Arial"/>
            </a:endParaRPr>
          </a:p>
        </p:txBody>
      </p:sp>
      <p:cxnSp>
        <p:nvCxnSpPr>
          <p:cNvPr id="426" name="Straight Arrow Connector 5"/>
          <p:cNvCxnSpPr/>
          <p:nvPr/>
        </p:nvCxnSpPr>
        <p:spPr>
          <a:xfrm>
            <a:off x="5029200" y="228600"/>
            <a:ext cx="534240" cy="5342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Title 1" descr=""/>
          <p:cNvPicPr/>
          <p:nvPr/>
        </p:nvPicPr>
        <p:blipFill>
          <a:blip r:embed="rId1"/>
          <a:stretch/>
        </p:blipFill>
        <p:spPr>
          <a:xfrm>
            <a:off x="103320" y="450720"/>
            <a:ext cx="8894520" cy="1152720"/>
          </a:xfrm>
          <a:prstGeom prst="rect">
            <a:avLst/>
          </a:prstGeom>
          <a:ln w="0">
            <a:noFill/>
          </a:ln>
        </p:spPr>
      </p:pic>
      <p:sp>
        <p:nvSpPr>
          <p:cNvPr id="428"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s colony was created as a crown colony, it was never a penal colony of England. From 1836 – 1850 between 37 and 39 thousand settlers arrived in South Australia.</a:t>
            </a:r>
            <a:endParaRPr b="0" lang="en-US" sz="3200" spc="-1" strike="noStrike">
              <a:solidFill>
                <a:srgbClr val="4e3b30"/>
              </a:solidFill>
              <a:latin typeface="Franklin Gothic Book"/>
            </a:endParaRPr>
          </a:p>
        </p:txBody>
      </p:sp>
      <p:pic>
        <p:nvPicPr>
          <p:cNvPr id="429" name="Picture 2" descr="http://members.iinet.net.au/~perthdps/convicts/aussa.gif"/>
          <p:cNvPicPr/>
          <p:nvPr/>
        </p:nvPicPr>
        <p:blipFill>
          <a:blip r:embed="rId2"/>
          <a:stretch/>
        </p:blipFill>
        <p:spPr>
          <a:xfrm>
            <a:off x="5105520" y="152280"/>
            <a:ext cx="1523880" cy="1401840"/>
          </a:xfrm>
          <a:prstGeom prst="rect">
            <a:avLst/>
          </a:prstGeom>
          <a:ln w="0">
            <a:noFill/>
          </a:ln>
        </p:spPr>
      </p:pic>
      <p:sp>
        <p:nvSpPr>
          <p:cNvPr id="430" name="TextBox 4"/>
          <p:cNvSpPr/>
          <p:nvPr/>
        </p:nvSpPr>
        <p:spPr>
          <a:xfrm>
            <a:off x="6635160" y="304920"/>
            <a:ext cx="1130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th Australia</a:t>
            </a:r>
            <a:endParaRPr b="0" lang="en-US" sz="1100" spc="-1" strike="noStrike">
              <a:solidFill>
                <a:srgbClr val="000000"/>
              </a:solidFill>
              <a:latin typeface="Arial"/>
            </a:endParaRPr>
          </a:p>
        </p:txBody>
      </p:sp>
      <p:cxnSp>
        <p:nvCxnSpPr>
          <p:cNvPr id="431" name="Straight Arrow Connector 5"/>
          <p:cNvCxnSpPr/>
          <p:nvPr/>
        </p:nvCxnSpPr>
        <p:spPr>
          <a:xfrm flipH="1">
            <a:off x="6095520" y="457200"/>
            <a:ext cx="610560" cy="38160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Title 1" descr=""/>
          <p:cNvPicPr/>
          <p:nvPr/>
        </p:nvPicPr>
        <p:blipFill>
          <a:blip r:embed="rId1"/>
          <a:stretch/>
        </p:blipFill>
        <p:spPr>
          <a:xfrm>
            <a:off x="298440" y="450720"/>
            <a:ext cx="8699400" cy="1152720"/>
          </a:xfrm>
          <a:prstGeom prst="rect">
            <a:avLst/>
          </a:prstGeom>
          <a:ln w="0">
            <a:noFill/>
          </a:ln>
        </p:spPr>
      </p:pic>
      <p:sp>
        <p:nvSpPr>
          <p:cNvPr id="43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 1841 New Zealand separated from New South Wales. Victoria was established in 1851, the first immigrants arrived in Port Philip in 1839. The only convicts sent to Victoria from England were the exiles. Other convicts came because of tickets of leave and Conditional pardons.</a:t>
            </a:r>
            <a:endParaRPr b="0" lang="en-US" sz="3200" spc="-1" strike="noStrike">
              <a:solidFill>
                <a:srgbClr val="4e3b30"/>
              </a:solidFill>
              <a:latin typeface="Franklin Gothic Book"/>
            </a:endParaRPr>
          </a:p>
        </p:txBody>
      </p:sp>
      <p:pic>
        <p:nvPicPr>
          <p:cNvPr id="434" name="Picture 2" descr="http://members.iinet.net.au/~perthdps/convicts/nz.gif"/>
          <p:cNvPicPr/>
          <p:nvPr/>
        </p:nvPicPr>
        <p:blipFill>
          <a:blip r:embed="rId2"/>
          <a:stretch/>
        </p:blipFill>
        <p:spPr>
          <a:xfrm>
            <a:off x="192240" y="609480"/>
            <a:ext cx="790560" cy="1067040"/>
          </a:xfrm>
          <a:prstGeom prst="rect">
            <a:avLst/>
          </a:prstGeom>
          <a:ln w="0">
            <a:noFill/>
          </a:ln>
        </p:spPr>
      </p:pic>
      <p:pic>
        <p:nvPicPr>
          <p:cNvPr id="435" name="Picture 4" descr="http://members.iinet.net.au/~perthdps/convicts/ausvic.gif"/>
          <p:cNvPicPr/>
          <p:nvPr/>
        </p:nvPicPr>
        <p:blipFill>
          <a:blip r:embed="rId3"/>
          <a:stretch/>
        </p:blipFill>
        <p:spPr>
          <a:xfrm>
            <a:off x="7391520" y="152280"/>
            <a:ext cx="1600200" cy="1471680"/>
          </a:xfrm>
          <a:prstGeom prst="rect">
            <a:avLst/>
          </a:prstGeom>
          <a:ln w="0">
            <a:noFill/>
          </a:ln>
        </p:spPr>
      </p:pic>
      <p:sp>
        <p:nvSpPr>
          <p:cNvPr id="436" name="TextBox 5"/>
          <p:cNvSpPr/>
          <p:nvPr/>
        </p:nvSpPr>
        <p:spPr>
          <a:xfrm>
            <a:off x="152280" y="228600"/>
            <a:ext cx="129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Zealand</a:t>
            </a:r>
            <a:endParaRPr b="0" lang="en-US" sz="1000" spc="-1" strike="noStrike">
              <a:solidFill>
                <a:srgbClr val="000000"/>
              </a:solidFill>
              <a:latin typeface="Arial"/>
            </a:endParaRPr>
          </a:p>
        </p:txBody>
      </p:sp>
      <p:sp>
        <p:nvSpPr>
          <p:cNvPr id="437" name="TextBox 6"/>
          <p:cNvSpPr/>
          <p:nvPr/>
        </p:nvSpPr>
        <p:spPr>
          <a:xfrm>
            <a:off x="73915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ctoria</a:t>
            </a:r>
            <a:endParaRPr b="0" lang="en-US" sz="1800" spc="-1" strike="noStrike">
              <a:solidFill>
                <a:srgbClr val="000000"/>
              </a:solidFill>
              <a:latin typeface="Arial"/>
            </a:endParaRPr>
          </a:p>
        </p:txBody>
      </p:sp>
      <p:cxnSp>
        <p:nvCxnSpPr>
          <p:cNvPr id="438" name="Straight Arrow Connector 7"/>
          <p:cNvCxnSpPr/>
          <p:nvPr/>
        </p:nvCxnSpPr>
        <p:spPr>
          <a:xfrm flipH="1">
            <a:off x="761400" y="456840"/>
            <a:ext cx="76680" cy="305640"/>
          </a:xfrm>
          <a:prstGeom prst="straightConnector1">
            <a:avLst/>
          </a:prstGeom>
          <a:ln w="25560">
            <a:solidFill>
              <a:srgbClr val="000000"/>
            </a:solidFill>
            <a:miter/>
            <a:tailEnd len="med" type="arrow" w="med"/>
          </a:ln>
        </p:spPr>
      </p:cxnSp>
      <p:cxnSp>
        <p:nvCxnSpPr>
          <p:cNvPr id="439" name="Straight Arrow Connector 8"/>
          <p:cNvCxnSpPr/>
          <p:nvPr/>
        </p:nvCxnSpPr>
        <p:spPr>
          <a:xfrm>
            <a:off x="7924680" y="304920"/>
            <a:ext cx="610560" cy="9151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1" descr=""/>
          <p:cNvPicPr/>
          <p:nvPr/>
        </p:nvPicPr>
        <p:blipFill>
          <a:blip r:embed="rId1"/>
          <a:stretch/>
        </p:blipFill>
        <p:spPr>
          <a:xfrm>
            <a:off x="103320" y="450720"/>
            <a:ext cx="8967600" cy="1152720"/>
          </a:xfrm>
          <a:prstGeom prst="rect">
            <a:avLst/>
          </a:prstGeom>
          <a:ln w="0">
            <a:noFill/>
          </a:ln>
        </p:spPr>
      </p:pic>
      <p:sp>
        <p:nvSpPr>
          <p:cNvPr id="44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colony was established by an explorer who took 30 convicts with him to proclaim it a penal colony. There was only about 2,000 convicts sent to the colony. Then in 1838 the first free settlers came. In 1859 Queensland separated from New South Wales. This colony was first settled by Europeans in 1824 and separated from New South Wales in 1863.</a:t>
            </a:r>
            <a:endParaRPr b="0" lang="en-US" sz="3200" spc="-1" strike="noStrike">
              <a:solidFill>
                <a:srgbClr val="4e3b30"/>
              </a:solidFill>
              <a:latin typeface="Franklin Gothic Book"/>
            </a:endParaRPr>
          </a:p>
        </p:txBody>
      </p:sp>
      <p:pic>
        <p:nvPicPr>
          <p:cNvPr id="442" name="Picture 2" descr="http://members.iinet.net.au/~perthdps/convicts/ausqld.gif"/>
          <p:cNvPicPr/>
          <p:nvPr/>
        </p:nvPicPr>
        <p:blipFill>
          <a:blip r:embed="rId2"/>
          <a:stretch/>
        </p:blipFill>
        <p:spPr>
          <a:xfrm>
            <a:off x="685800" y="5595840"/>
            <a:ext cx="1371600" cy="1262160"/>
          </a:xfrm>
          <a:prstGeom prst="rect">
            <a:avLst/>
          </a:prstGeom>
          <a:ln w="0">
            <a:noFill/>
          </a:ln>
        </p:spPr>
      </p:pic>
      <p:pic>
        <p:nvPicPr>
          <p:cNvPr id="443" name="Picture 4" descr="http://members.iinet.net.au/~perthdps/convicts/ausnt.gif"/>
          <p:cNvPicPr/>
          <p:nvPr/>
        </p:nvPicPr>
        <p:blipFill>
          <a:blip r:embed="rId3"/>
          <a:stretch/>
        </p:blipFill>
        <p:spPr>
          <a:xfrm>
            <a:off x="6858000" y="5105520"/>
            <a:ext cx="1319040" cy="1212840"/>
          </a:xfrm>
          <a:prstGeom prst="rect">
            <a:avLst/>
          </a:prstGeom>
          <a:ln w="0">
            <a:noFill/>
          </a:ln>
        </p:spPr>
      </p:pic>
      <p:sp>
        <p:nvSpPr>
          <p:cNvPr id="444" name="TextBox 5"/>
          <p:cNvSpPr/>
          <p:nvPr/>
        </p:nvSpPr>
        <p:spPr>
          <a:xfrm>
            <a:off x="691200" y="5562720"/>
            <a:ext cx="9352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ensland</a:t>
            </a:r>
            <a:endParaRPr b="0" lang="en-US" sz="1100" spc="-1" strike="noStrike">
              <a:solidFill>
                <a:srgbClr val="000000"/>
              </a:solidFill>
              <a:latin typeface="Arial"/>
            </a:endParaRPr>
          </a:p>
        </p:txBody>
      </p:sp>
      <p:sp>
        <p:nvSpPr>
          <p:cNvPr id="445" name="TextBox 6"/>
          <p:cNvSpPr/>
          <p:nvPr/>
        </p:nvSpPr>
        <p:spPr>
          <a:xfrm>
            <a:off x="6784920" y="6400800"/>
            <a:ext cx="1288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rthern Territory</a:t>
            </a:r>
            <a:endParaRPr b="0" lang="en-US" sz="1100" spc="-1" strike="noStrike">
              <a:solidFill>
                <a:srgbClr val="000000"/>
              </a:solidFill>
              <a:latin typeface="Arial"/>
            </a:endParaRPr>
          </a:p>
        </p:txBody>
      </p:sp>
      <p:cxnSp>
        <p:nvCxnSpPr>
          <p:cNvPr id="446" name="Straight Arrow Connector 7"/>
          <p:cNvCxnSpPr>
            <a:stCxn id="444" idx="2"/>
          </p:cNvCxnSpPr>
          <p:nvPr/>
        </p:nvCxnSpPr>
        <p:spPr>
          <a:xfrm>
            <a:off x="1158840" y="5824440"/>
            <a:ext cx="518400" cy="272160"/>
          </a:xfrm>
          <a:prstGeom prst="straightConnector1">
            <a:avLst/>
          </a:prstGeom>
          <a:ln w="25560">
            <a:solidFill>
              <a:srgbClr val="000000"/>
            </a:solidFill>
            <a:miter/>
            <a:tailEnd len="med" type="arrow" w="med"/>
          </a:ln>
        </p:spPr>
      </p:cxnSp>
      <p:cxnSp>
        <p:nvCxnSpPr>
          <p:cNvPr id="447" name="Straight Arrow Connector 8"/>
          <p:cNvCxnSpPr>
            <a:stCxn id="445" idx="0"/>
          </p:cNvCxnSpPr>
          <p:nvPr/>
        </p:nvCxnSpPr>
        <p:spPr>
          <a:xfrm flipV="1">
            <a:off x="7428600" y="5637960"/>
            <a:ext cx="38520" cy="7628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1" descr=""/>
          <p:cNvPicPr/>
          <p:nvPr/>
        </p:nvPicPr>
        <p:blipFill>
          <a:blip r:embed="rId1"/>
          <a:stretch/>
        </p:blipFill>
        <p:spPr>
          <a:xfrm>
            <a:off x="103320" y="450720"/>
            <a:ext cx="8894520" cy="1152720"/>
          </a:xfrm>
          <a:prstGeom prst="rect">
            <a:avLst/>
          </a:prstGeom>
          <a:ln w="0">
            <a:noFill/>
          </a:ln>
        </p:spPr>
      </p:pic>
      <p:sp>
        <p:nvSpPr>
          <p:cNvPr id="449" name=""/>
          <p:cNvSpPr txBox="1"/>
          <p:nvPr/>
        </p:nvSpPr>
        <p:spPr>
          <a:xfrm>
            <a:off x="304920" y="1554120"/>
            <a:ext cx="8686800" cy="4525920"/>
          </a:xfrm>
          <a:prstGeom prst="rect">
            <a:avLst/>
          </a:prstGeom>
          <a:noFill/>
          <a:ln w="0">
            <a:noFill/>
          </a:ln>
        </p:spPr>
        <p:txBody>
          <a:bodyPr anchor="t">
            <a:normAutofit/>
          </a:bodyPr>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00’s shipment of convicts to America</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75 – 1783 American Revolution</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83 – 1787 British prisons and hulks were at maximum capacity</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87 Lord Sydney agreed for convicts to be shipped to Australia</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3/05/1787 First fleet, 11 ship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90 Second fleet</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91 Third fleet</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25 Van Diemen’s Land (Tasmania) separated from New South Wale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27 Western Australia was established</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36 South Australia was established</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41 New Zealand Separated from New South Wale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51 Victoria separated from New South Wale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59 Queensland separated from New South Wale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63 Northern Territory separated from New South Wale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13:00:47Z</dcterms:created>
  <dc:creator>Kent</dc:creator>
  <dc:description/>
  <dc:language>en-US</dc:language>
  <cp:lastModifiedBy>Kent</cp:lastModifiedBy>
  <dcterms:modified xsi:type="dcterms:W3CDTF">2010-04-18T17:00:18Z</dcterms:modified>
  <cp:revision>40</cp:revision>
  <dc:subject/>
  <dc:title>Slide 1</dc:title>
</cp:coreProperties>
</file>